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9544-F8CC-4F76-8B50-DD23C4A9C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2624-19AE-4059-8679-5B4DA9F28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es this lesson goal fit with the expectation and BI?</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E5C5-9AB6-4868-89B4-4AC7AD809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things do you know or have learned from Marian about consolidating questions?</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B117-A4EA-43F4-B9D9-4329DA4C3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Marian’s consolidating question.</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0784-E0CF-49D5-9037-80F47FDF6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it is time for us to work on  a problem to determine expectation, big idea, lesson goal and consolidat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are given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you are given the consolidating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 group of 3, we ask you to determine first the expectation and big idea . We will discuss these before writing the lesson goal.</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E76F-CC6A-4B82-8A07-FD24214E5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share of thi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int problem on chart paper or large role – add info to problem as we go  - solution, expectation, big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xpectation : locate whole numbers on a number line and a partial number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Big Idea : Numbers are compared in  many ways. Sometimes they are compared to each other. Other times they are compared to benchmarks.</a:t>
            </a: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A9A1-08AC-4AC2-8BE7-934A226FA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82F0-1E1F-4E6A-9895-CDA64DC73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your group of 3 discuss - What do we k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ec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big ide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Where the number line beg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when choose one other spot on the line we can assign a third number</a:t>
            </a: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00A8-0D91-483C-A79C-5F08A8CC2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ew the things that we know and then write  a lesson goal which reflects the big idea and expectation, showing what we want the student to be abl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gether in your group talk about what you want the students to know how to do in the end. Refer to the expectation and BI to help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ossible Lesson Goal – students will compare numbers to benchmarks or to themselves to determine placement, size and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LG with whole group – have them posted (number them) and place similar ones together.</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74EC-4A40-48DE-B524-FB3AA4BEC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do you think about lesson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are they similar to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are they different than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do we gain by writing lesson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5F23-32AB-4A79-9A04-86E3B5E41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ting Question: Choose a number. Represent it in different ways to show how many 10’s and 1’s ther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6253-2BB1-4A98-A75B-0E6A1340B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day Marain talked about lesson goals and the reasons behind them. Goals are important – they guide us and motivate us to act. They are often tied to a bigge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our goal is specific – if you don’t know where you are going, you won’t know if you have arr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t’s start today’s session by playing with some very interesting and curious behaviours and the goals behin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person has one situation. Find the other person who has the same scenario as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gether discuss the reasons or goals that may have motivated the action. Go deep with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EC4D-2B5F-4795-A43C-A25681994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ectation :  Gr 1 - represent, compare and order whole numbers to 50, using a variety of tools and co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Gr 2 – represent, compare and order whole numbers to 100, including cents to 100 and a variety of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ig Idea – There are many equivalent representations for a number or numerical relationship. Each representation may emphasize something different about that number o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Share </a:t>
            </a: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1A03-5DAC-4F5B-98C6-745844F4F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know the expectation, the big idea and the lesson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know that we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dealing with 2 digit numb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me place valu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umber 20 is to be represented in different ways (add’n, subt’n. pictorial in groups, ten frames, five fram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ing to see groups of 10</a:t>
            </a: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9572-6455-4D57-AB1E-967C15475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ew the things that we know and then write  a consolidating question which reflects the big idea and expectation, creating a question that allows the student to demonstrate his understanding and ability of the expec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gether in your group talk about  what the question would look like that shows you that the student understands the expectation and meets the lesson goal. Refer to the expectation and BI to help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ossible Consolidating Question : Choose a number. Represent it in different ways to show how many 10s and 1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LG with whole group – have them posted (number them) and place similar one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9A8C-ADA8-464E-BF89-8159D5B6F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questions do you have about lesson goals and consolidat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 is</a:t>
            </a: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69DC-7643-4F07-A1F6-B604DACD8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4BA4-8C53-43E4-9C22-0309AC8E5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74D6-CF49-4671-BDD5-B5471BB13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86BA-C4E7-4F6B-8F2F-536C7EAA8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nking about this list, I think that it is a bit like the chicken and the egg. Which came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 in this lest is to determine your expectation from the curriculum and then the big idea that it relates to. But can it work anoth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if when you asses for learning, you know that your students are missing the concept of xxxxx . In this case you have selected the big idea first and will work in reverse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other time you may find a fabulous problem that has arisen from within the classroom that you know that your students will enjoy and benefit from solving. In this case, you will be looking for the expectation and big idea through which to filter it.</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33CB-5A19-436E-805B-95156B5F3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efore we begin problems of our own, let’s take some time to go over the terms as shown in this slide, what they are and what they look like. We will use Marian’s Grade 2 example from this morning to guide use.</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B6B3-A796-4060-9F81-CD340DD49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DF29-9E28-4051-B5F0-7E63BFF37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call back to the lesson or by looking at your list of the big ideas, determine which BI underpins this expec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t responses from the group.</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995B-814C-4862-966F-0B24554FD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C272-554D-4B59-9D8C-01B7A5ED1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5DAAF-3607-4EED-A54E-1021E2A52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3B1F9-8CE5-45B6-B28B-089C257F7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4F763-5526-48D3-9F33-CA01D575A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9FDB7-4376-4E43-98A8-7B70E2E6B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09FA7-9999-4FC0-AEE7-B53723FC3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F437E-3DFA-43F2-8234-8D9EF398B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D16E3-45AF-43CF-9732-D3D42EAC7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27547-B0A3-4662-A1BE-CF3B66724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F82FB-E531-4D9D-A356-B3815B6FA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FFCF5-C763-4B01-902B-D649FD1BB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40B62-1F6C-4919-A162-E19B56219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87ED0-A0CA-4523-9C2D-BD8F82B7E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03F82-53D7-47E4-B8FE-999C93ED4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53846-1689-4114-99C7-9EA0A169E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2D0D6-492D-4E73-B483-9892C0A4C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380B0-5CBE-4338-9500-A3078F68F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9EA40-5FB1-47FC-A5FE-219A619FB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694CA-80B2-4E3A-BAA4-66A4F1E99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B2E38-BA13-48F1-A8E2-F105D442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6A38-7C82-4D0A-BC0A-21A53773C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BCA99-77BD-411A-90C9-6089385B2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41A12-4A7A-41B0-BAA3-3372FD70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7F49-4D51-43AF-B47C-9E8E295CA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B95BA-3917-4EF8-B8A0-CAE284163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F63F-BEE9-4669-90B9-AFD6284BF60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9C1B-F04D-45E5-AB9F-C61AB31935E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54936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d469b"/>
                </a:solidFill>
                <a:latin typeface="Book Antiqua"/>
              </a:rPr>
              <a:t>Kindergarten to Grade 2 / Session #2A</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sson Goal</a:t>
            </a:r>
            <a:endParaRPr b="0" lang="en-US" sz="4400" spc="-1" strike="noStrike">
              <a:solidFill>
                <a:srgbClr val="0d469b"/>
              </a:solidFill>
              <a:latin typeface="Arial"/>
            </a:endParaRPr>
          </a:p>
        </p:txBody>
      </p:sp>
      <p:sp>
        <p:nvSpPr>
          <p:cNvPr id="11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00000"/>
                </a:solidFill>
                <a:latin typeface="Arial"/>
              </a:rPr>
              <a:t>Expectation - locating numbers on a number line  and partial number line to 1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00000"/>
                </a:solidFill>
                <a:latin typeface="Arial"/>
              </a:rPr>
              <a:t>BI- use numbers to give us the sense of the size of someth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sson Goal – students will describe numbers that are and are not included in a skip counting situation by referring to a number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8920" y="761760"/>
            <a:ext cx="8713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reating Consolidating Questions</a:t>
            </a:r>
            <a:endParaRPr b="0" lang="en-US" sz="4400" spc="-1" strike="noStrike">
              <a:solidFill>
                <a:srgbClr val="0d469b"/>
              </a:solidFill>
              <a:latin typeface="Arial"/>
            </a:endParaRPr>
          </a:p>
        </p:txBody>
      </p:sp>
      <p:sp>
        <p:nvSpPr>
          <p:cNvPr id="113" name=""/>
          <p:cNvSpPr txBox="1"/>
          <p:nvPr/>
        </p:nvSpPr>
        <p:spPr>
          <a:xfrm>
            <a:off x="457200" y="1904760"/>
            <a:ext cx="8229600" cy="4724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olidating question pulls all of the learning togethe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a means to determine whether the lesson goal has been meet.</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need to ask a question or two that gets Right to your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7" dur="5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2" dur="500"/>
                                        <p:tgtEl>
                                          <p:spTgt spid="11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17"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
          <p:cNvSpPr txBox="1"/>
          <p:nvPr/>
        </p:nvSpPr>
        <p:spPr>
          <a:xfrm>
            <a:off x="684000" y="836280"/>
            <a:ext cx="7848360" cy="5792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Arial"/>
              </a:rPr>
              <a:t>Expectation - locating numbers on a number line to 100</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Arial"/>
              </a:rPr>
              <a:t>BI- use numbers to give us the sense of the size of something</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Arial"/>
              </a:rPr>
              <a:t>Lesson Goal – students will describe numbers that are and are not included in a skip counting situation by referring to a number line</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olidating Question – A number line is labelled starting at 0 by skip counting by 5’s. A spot on the line is pretty far from 0 and really close to one of the numbers that is labelled. What might it be? How do you k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orking on It #1</a:t>
            </a:r>
            <a:endParaRPr b="0" lang="en-US" sz="4400" spc="-1" strike="noStrike">
              <a:solidFill>
                <a:srgbClr val="0d469b"/>
              </a:solidFill>
              <a:latin typeface="Arial"/>
            </a:endParaRPr>
          </a:p>
        </p:txBody>
      </p:sp>
      <p:sp>
        <p:nvSpPr>
          <p:cNvPr id="116" name=""/>
          <p:cNvSpPr txBox="1"/>
          <p:nvPr/>
        </p:nvSpPr>
        <p:spPr>
          <a:xfrm>
            <a:off x="457200" y="1904760"/>
            <a:ext cx="8229600" cy="47242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blem : Choose a number for the second mark on the number lin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0 --------------------------   ------</a:t>
            </a:r>
            <a:r>
              <a:rPr b="0" lang="en-CA" sz="2800" spc="-1" strike="noStrike">
                <a:solidFill>
                  <a:srgbClr val="000000"/>
                </a:solidFill>
                <a:latin typeface="Wingdings"/>
                <a:ea typeface="Wingdings"/>
              </a:rPr>
              <a:t></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 a third point on the line. Tell what number name it should have and why.</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olidating Question: Create a sentence that uses each of the four numbers and words shown below. Other  and numbers can be used.</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3, more, 5, and</a:t>
            </a:r>
            <a:endParaRPr b="0" lang="en-US" sz="2800" spc="-1" strike="noStrike">
              <a:solidFill>
                <a:srgbClr val="000000"/>
              </a:solidFill>
              <a:latin typeface="Arial"/>
            </a:endParaRPr>
          </a:p>
        </p:txBody>
      </p:sp>
      <p:sp>
        <p:nvSpPr>
          <p:cNvPr id="117" name="Oval 4"/>
          <p:cNvSpPr/>
          <p:nvPr/>
        </p:nvSpPr>
        <p:spPr>
          <a:xfrm>
            <a:off x="4284720" y="2781360"/>
            <a:ext cx="216000" cy="287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24" dur="500"/>
                                        <p:tgtEl>
                                          <p:spTgt spid="116">
                                            <p:txEl>
                                              <p:pRg st="4" end="4"/>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27" dur="5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till Working on It</a:t>
            </a:r>
            <a:endParaRPr b="0" lang="en-US" sz="4400" spc="-1" strike="noStrike">
              <a:solidFill>
                <a:srgbClr val="0d469b"/>
              </a:solidFill>
              <a:latin typeface="Arial"/>
            </a:endParaRPr>
          </a:p>
        </p:txBody>
      </p:sp>
      <p:sp>
        <p:nvSpPr>
          <p:cNvPr id="11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tri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the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expectation(s) and big ide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you interpret this expect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your interpretation connect to the big ide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ing Question</a:t>
            </a:r>
            <a:endParaRPr b="0" lang="en-US" sz="4400" spc="-1" strike="noStrike">
              <a:solidFill>
                <a:srgbClr val="0d469b"/>
              </a:solidFill>
              <a:latin typeface="Arial"/>
            </a:endParaRPr>
          </a:p>
        </p:txBody>
      </p:sp>
      <p:sp>
        <p:nvSpPr>
          <p:cNvPr id="121" name=""/>
          <p:cNvSpPr txBox="1"/>
          <p:nvPr/>
        </p:nvSpPr>
        <p:spPr>
          <a:xfrm>
            <a:off x="457200" y="1904760"/>
            <a:ext cx="8229600" cy="4724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reate a sentence that uses each of the four numbers and words below. You can use other words and numbers.</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3, more, 5, a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hat </a:t>
            </a:r>
            <a:r>
              <a:rPr b="1" lang="en-CA" sz="4400" spc="-1" strike="noStrike">
                <a:solidFill>
                  <a:srgbClr val="0d469b"/>
                </a:solidFill>
                <a:latin typeface="Arial"/>
              </a:rPr>
              <a:t>Do </a:t>
            </a:r>
            <a:r>
              <a:rPr b="0" lang="en-CA" sz="4400" spc="-1" strike="noStrike">
                <a:solidFill>
                  <a:srgbClr val="0d469b"/>
                </a:solidFill>
                <a:latin typeface="Arial"/>
              </a:rPr>
              <a:t>We Know?</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fore we write a lesson goal for this expectation and big idea, let’s discuss what we kno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nformation do we have to help us write a lesson go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rite a Lesson Goal</a:t>
            </a:r>
            <a:endParaRPr b="0" lang="en-US" sz="4400" spc="-1" strike="noStrike">
              <a:solidFill>
                <a:srgbClr val="0d469b"/>
              </a:solidFill>
              <a:latin typeface="Arial"/>
            </a:endParaRPr>
          </a:p>
        </p:txBody>
      </p:sp>
      <p:sp>
        <p:nvSpPr>
          <p:cNvPr id="125" name=""/>
          <p:cNvSpPr txBox="1"/>
          <p:nvPr/>
        </p:nvSpPr>
        <p:spPr>
          <a:xfrm>
            <a:off x="457200" y="1904760"/>
            <a:ext cx="8229600" cy="47242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know:</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expectat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big idea</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re the number line begin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we choose one other spot on the line we can assign a third number, a fourth and so 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lesson goal states the desired learning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 and Connect</a:t>
            </a:r>
            <a:endParaRPr b="0" lang="en-US" sz="4400" spc="-1" strike="noStrike">
              <a:solidFill>
                <a:srgbClr val="0d469b"/>
              </a:solidFill>
              <a:latin typeface="Arial"/>
            </a:endParaRPr>
          </a:p>
        </p:txBody>
      </p:sp>
      <p:sp>
        <p:nvSpPr>
          <p:cNvPr id="12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scussion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one idea that came up that reinforces what you already do with respect to creating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ffer one idea that came up that might change how you create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orking On It #2</a:t>
            </a:r>
            <a:endParaRPr b="0" lang="en-US" sz="4400" spc="-1" strike="noStrike">
              <a:solidFill>
                <a:srgbClr val="0d469b"/>
              </a:solidFill>
              <a:latin typeface="Arial"/>
            </a:endParaRPr>
          </a:p>
        </p:txBody>
      </p:sp>
      <p:sp>
        <p:nvSpPr>
          <p:cNvPr id="12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Represent 20 in a lot of different ways. Which of those ways help you see that 20 is 2 te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Goal: To compose and decompose a numbers showing that they are made up of groups of10’s and 1’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29">
                                            <p:txEl>
                                              <p:pRg st="2" end="2"/>
                                            </p:txEl>
                                          </p:spTgt>
                                        </p:tgtEl>
                                        <p:attrNameLst>
                                          <p:attrName>style.visibility</p:attrName>
                                        </p:attrNameLst>
                                      </p:cBhvr>
                                      <p:to>
                                        <p:strVal val="visible"/>
                                      </p:to>
                                    </p:set>
                                    <p:animEffect filter="box(in)" transition="in">
                                      <p:cBhvr additive="repl">
                                        <p:cTn id="34"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hat is your Goal?</a:t>
            </a:r>
            <a:endParaRPr b="0" lang="en-US" sz="4400" spc="-1" strike="noStrike">
              <a:solidFill>
                <a:srgbClr val="0d469b"/>
              </a:solidFill>
              <a:latin typeface="Arial"/>
            </a:endParaRPr>
          </a:p>
        </p:txBody>
      </p:sp>
      <p:sp>
        <p:nvSpPr>
          <p:cNvPr id="9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r husband comes home with a dozen red r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 have just purchased 9 metres of white organ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 have just dyed your hair mousey br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till Working on It</a:t>
            </a:r>
            <a:endParaRPr b="0" lang="en-US" sz="4400" spc="-1" strike="noStrike">
              <a:solidFill>
                <a:srgbClr val="0d469b"/>
              </a:solidFill>
              <a:latin typeface="Arial"/>
            </a:endParaRPr>
          </a:p>
        </p:txBody>
      </p:sp>
      <p:sp>
        <p:nvSpPr>
          <p:cNvPr id="131" name=""/>
          <p:cNvSpPr txBox="1"/>
          <p:nvPr/>
        </p:nvSpPr>
        <p:spPr>
          <a:xfrm>
            <a:off x="457200" y="1904760"/>
            <a:ext cx="8229600" cy="472428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triad:</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the problem</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expectation(s) and big idea</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a:t>
            </a: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you interpret this expectation?</a:t>
            </a: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your interpretation connect to the big idea?</a:t>
            </a: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hat </a:t>
            </a:r>
            <a:r>
              <a:rPr b="1" lang="en-CA" sz="4400" spc="-1" strike="noStrike">
                <a:solidFill>
                  <a:srgbClr val="0d469b"/>
                </a:solidFill>
                <a:latin typeface="Arial"/>
              </a:rPr>
              <a:t>Do</a:t>
            </a:r>
            <a:r>
              <a:rPr b="0" lang="en-CA" sz="4400" spc="-1" strike="noStrike">
                <a:solidFill>
                  <a:srgbClr val="0d469b"/>
                </a:solidFill>
                <a:latin typeface="Arial"/>
              </a:rPr>
              <a:t> We Know?</a:t>
            </a:r>
            <a:endParaRPr b="0" lang="en-US" sz="4400" spc="-1" strike="noStrike">
              <a:solidFill>
                <a:srgbClr val="0d469b"/>
              </a:solidFill>
              <a:latin typeface="Arial"/>
            </a:endParaRPr>
          </a:p>
        </p:txBody>
      </p:sp>
      <p:sp>
        <p:nvSpPr>
          <p:cNvPr id="13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Before we write a consolidating question, for this expectation, big idea and lesson goal, let’s discuss what we kno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nformation do we have that will help us write a consolidating ques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rite a Consolidating Question</a:t>
            </a:r>
            <a:endParaRPr b="0" lang="en-US" sz="4400" spc="-1" strike="noStrike">
              <a:solidFill>
                <a:srgbClr val="0d469b"/>
              </a:solidFill>
              <a:latin typeface="Arial"/>
            </a:endParaRPr>
          </a:p>
        </p:txBody>
      </p:sp>
      <p:sp>
        <p:nvSpPr>
          <p:cNvPr id="135"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kno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expect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big idea</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lesson goal – to compose and decompose a number showing that they are made up of groups of 10s and 1s (place valu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Variety of representations (numbers, pictures, ten frames)</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 and Connect</a:t>
            </a:r>
            <a:endParaRPr b="0" lang="en-US" sz="4400" spc="-1" strike="noStrike">
              <a:solidFill>
                <a:srgbClr val="0d469b"/>
              </a:solidFill>
              <a:latin typeface="Arial"/>
            </a:endParaRPr>
          </a:p>
        </p:txBody>
      </p:sp>
      <p:sp>
        <p:nvSpPr>
          <p:cNvPr id="137" name=""/>
          <p:cNvSpPr txBox="1"/>
          <p:nvPr/>
        </p:nvSpPr>
        <p:spPr>
          <a:xfrm>
            <a:off x="457200" y="1904760"/>
            <a:ext cx="83628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scussion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one idea that came up that reinforces what you already do with respect to creating consolidation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ffer one idea that came up that might change how you create consolidat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ssessment for Learning</a:t>
            </a:r>
            <a:endParaRPr b="0" lang="en-US" sz="4400" spc="-1" strike="noStrike">
              <a:solidFill>
                <a:srgbClr val="0d469b"/>
              </a:solidFill>
              <a:latin typeface="Arial"/>
            </a:endParaRPr>
          </a:p>
        </p:txBody>
      </p:sp>
      <p:pic>
        <p:nvPicPr>
          <p:cNvPr id="139" name="" descr=""/>
          <p:cNvPicPr/>
          <p:nvPr/>
        </p:nvPicPr>
        <p:blipFill>
          <a:blip r:embed="rId1"/>
          <a:stretch/>
        </p:blipFill>
        <p:spPr>
          <a:xfrm>
            <a:off x="457200" y="190476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eedback</a:t>
            </a:r>
            <a:endParaRPr b="0" lang="en-US" sz="4400" spc="-1" strike="noStrike">
              <a:solidFill>
                <a:srgbClr val="0d469b"/>
              </a:solidFill>
              <a:latin typeface="Arial"/>
            </a:endParaRPr>
          </a:p>
        </p:txBody>
      </p:sp>
      <p:sp>
        <p:nvSpPr>
          <p:cNvPr id="141" name=""/>
          <p:cNvSpPr txBox="1"/>
          <p:nvPr/>
        </p:nvSpPr>
        <p:spPr>
          <a:xfrm>
            <a:off x="457200" y="2349000"/>
            <a:ext cx="8229600" cy="42800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quared with your thinking</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aked your curiosity</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ircling in your mi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5" descr="http://www.fotosearch.com/bthumb/UNC/UNC136/u13955836.jpg"/>
          <p:cNvPicPr/>
          <p:nvPr/>
        </p:nvPicPr>
        <p:blipFill>
          <a:blip r:embed="rId1"/>
          <a:stretch/>
        </p:blipFill>
        <p:spPr>
          <a:xfrm>
            <a:off x="6875640" y="4149720"/>
            <a:ext cx="1074600" cy="1276200"/>
          </a:xfrm>
          <a:prstGeom prst="rect">
            <a:avLst/>
          </a:prstGeom>
          <a:ln w="57240">
            <a:solidFill>
              <a:srgbClr val="000000"/>
            </a:solidFill>
            <a:miter/>
          </a:ln>
        </p:spPr>
      </p:pic>
      <p:pic>
        <p:nvPicPr>
          <p:cNvPr id="143" name="Picture 7" descr="http://www.fotosearch.com/bthumb/ARP/ARP112/Tile_18.jpg"/>
          <p:cNvPicPr/>
          <p:nvPr/>
        </p:nvPicPr>
        <p:blipFill>
          <a:blip r:embed="rId2"/>
          <a:stretch/>
        </p:blipFill>
        <p:spPr>
          <a:xfrm>
            <a:off x="826920" y="2205000"/>
            <a:ext cx="1187640" cy="1187640"/>
          </a:xfrm>
          <a:prstGeom prst="rect">
            <a:avLst/>
          </a:prstGeom>
          <a:ln w="38160">
            <a:solidFill>
              <a:srgbClr val="000000"/>
            </a:solidFill>
            <a:miter/>
          </a:ln>
        </p:spPr>
      </p:pic>
      <p:pic>
        <p:nvPicPr>
          <p:cNvPr id="144" name="Picture 9" descr="http://www.fotosearch.com/bthumb/CSP/CSP394/k3948769.jpg"/>
          <p:cNvPicPr/>
          <p:nvPr/>
        </p:nvPicPr>
        <p:blipFill>
          <a:blip r:embed="rId3"/>
          <a:stretch/>
        </p:blipFill>
        <p:spPr>
          <a:xfrm>
            <a:off x="4643280" y="3500280"/>
            <a:ext cx="971640" cy="9716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 </a:t>
            </a:r>
            <a:r>
              <a:rPr b="0" lang="en-US" sz="4400" spc="-1" strike="noStrike">
                <a:solidFill>
                  <a:srgbClr val="0d469b"/>
                </a:solidFill>
                <a:latin typeface="Arial"/>
              </a:rPr>
              <a:t>The Real Reason</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had some fun with identifying the goal behind some curious ac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hare your best goal with the whole group.</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 </a:t>
            </a:r>
            <a:r>
              <a:rPr b="0" lang="en-US" sz="4400" spc="-1" strike="noStrike">
                <a:solidFill>
                  <a:srgbClr val="0d469b"/>
                </a:solidFill>
                <a:latin typeface="Arial"/>
              </a:rPr>
              <a:t>Marian’s List</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st your expectation</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st the Big Idea you want to use to filter that expectation through</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 a lesson goal based on the expectation</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a consolidating question focused on the goal</a:t>
            </a:r>
            <a:endParaRPr b="0" lang="en-US" sz="3600" spc="-1" strike="noStrike">
              <a:solidFill>
                <a:srgbClr val="000000"/>
              </a:solidFill>
              <a:latin typeface="Arial"/>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ploring Terms</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g Idea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sson Goa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olidat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ade 2 – Marian’s Example</a:t>
            </a:r>
            <a:endParaRPr b="0" lang="en-US" sz="44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cate whole numbers to 100 on a number line and on  a partial number line (e.g. Locate 37 on a partial number line that goes from 34 to 41)</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4800" spc="-1" strike="noStrike">
                <a:solidFill>
                  <a:srgbClr val="e70308"/>
                </a:solidFill>
                <a:latin typeface="Arial"/>
              </a:rPr>
              <a:t>34</a:t>
            </a:r>
            <a:r>
              <a:rPr b="0" lang="en-CA" sz="3200" spc="-1" strike="noStrike">
                <a:solidFill>
                  <a:srgbClr val="000000"/>
                </a:solidFill>
                <a:latin typeface="Arial"/>
              </a:rPr>
              <a:t> -------------------------- </a:t>
            </a:r>
            <a:r>
              <a:rPr b="0" lang="en-CA" sz="4800" spc="-1" strike="noStrike">
                <a:solidFill>
                  <a:srgbClr val="e70308"/>
                </a:solidFill>
                <a:latin typeface="Arial"/>
              </a:rPr>
              <a:t>4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f this is the expectation:</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00000"/>
                </a:solidFill>
                <a:latin typeface="Arial"/>
              </a:rPr>
              <a:t>Locate whole numbers to 100 on a number line and on  a partial number line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n what is the big ide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ade 2 – Marian’s Example</a:t>
            </a:r>
            <a:endParaRPr b="0" lang="en-US" sz="44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00000"/>
                </a:solidFill>
                <a:latin typeface="Arial"/>
              </a:rPr>
              <a:t>Expectation:Locate whole numbers to 100 on a number line and on  apartial number line (e.g. Locate 37 on a partial number line that goes from 34 to 41)</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g Ide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ually we use numbers to give us a sense of the size of someth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s tell us how many or how muc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d469b"/>
                </a:solidFill>
                <a:latin typeface="Arial"/>
              </a:rPr>
              <a:t> </a:t>
            </a:r>
            <a:r>
              <a:rPr b="0" lang="en-CA" sz="3200" spc="-1" strike="noStrike">
                <a:solidFill>
                  <a:srgbClr val="0d469b"/>
                </a:solidFill>
                <a:latin typeface="Arial"/>
              </a:rPr>
              <a:t>Characteristics of Lesson Goals</a:t>
            </a:r>
            <a:endParaRPr b="0" lang="en-US" sz="3200" spc="-1" strike="noStrike">
              <a:solidFill>
                <a:srgbClr val="0d469b"/>
              </a:solidFill>
              <a:latin typeface="Arial"/>
            </a:endParaRPr>
          </a:p>
        </p:txBody>
      </p:sp>
      <p:sp>
        <p:nvSpPr>
          <p:cNvPr id="108"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1" lang="en-US" sz="2800" spc="-1" strike="noStrike">
                <a:solidFill>
                  <a:srgbClr val="000000"/>
                </a:solidFill>
                <a:latin typeface="Arial"/>
              </a:rPr>
              <a:t>characteristics</a:t>
            </a:r>
            <a:r>
              <a:rPr b="0" lang="en-US" sz="2800" spc="-1" strike="noStrike">
                <a:solidFill>
                  <a:srgbClr val="000000"/>
                </a:solidFill>
                <a:latin typeface="Arial"/>
              </a:rPr>
              <a:t> are we looking fo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urriculum specific.</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ssessabl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usually, and definitely for CAMPPP, rooted in conceptual understanding.</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usually, and definitely for CAMPPP is, filtered through a big idea.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ought about why it’s worth teaching and that infuses your less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9" name="Text Box 4"/>
          <p:cNvSpPr/>
          <p:nvPr/>
        </p:nvSpPr>
        <p:spPr>
          <a:xfrm>
            <a:off x="4952880" y="624852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Glynnis Fleming</cp:lastModifiedBy>
  <dcterms:modified xsi:type="dcterms:W3CDTF">2010-08-15T20:46:56Z</dcterms:modified>
  <cp:revision>163</cp:revision>
  <dc:subject/>
  <dc:title>Slide 1</dc:title>
</cp:coreProperties>
</file>